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8F6-1507-4FA5-A179-9638FFA8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E0A-A1FA-4E2B-8AE5-E7A02E85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B39-C459-4A58-ADB3-28F0F852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CB3-4A73-4FB3-8D71-81115C55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C40-B2A2-4245-8322-E55E1582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388-64DD-4149-B72D-B7D22084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C75-8CBE-4C83-9F68-9B78295B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9B9-1626-494B-947D-361AA8E6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E08-E2E9-4A6B-B45E-2CEF43A9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536-3B72-453D-8BEF-7BA432D0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759-234F-4BE7-ABC2-16DAC63F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44E-3B65-4AEC-9E26-0907B027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596C-E9D1-42DB-8318-89CA96DFA0D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MG_2188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ms_logo_blue_300dpi1"/>
          <p:cNvPicPr/>
          <p:nvPr/>
        </p:nvPicPr>
        <p:blipFill>
          <a:blip r:embed="rId2"/>
          <a:stretch/>
        </p:blipFill>
        <p:spPr>
          <a:xfrm>
            <a:off x="34920" y="5459400"/>
            <a:ext cx="1000080" cy="1354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76200" y="374760"/>
            <a:ext cx="858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RINE TURTLE CONSERV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IA CMS AND OTHER INTERNATIONAL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REPOR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TRATEGIC AND PLANNING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MS SCIENTIFIC COUNCIL, FORMIA (ITALY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9-11 OCTOBER 20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206160" y="6568920"/>
            <a:ext cx="33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r Colin Limpus, Scientific Councillor, Marine Turt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837080" y="4124160"/>
            <a:ext cx="72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960560" y="4797360"/>
            <a:ext cx="116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USTRAL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914400" y="3276720"/>
            <a:ext cx="8229600" cy="2743200"/>
            <a:chOff x="914400" y="3276720"/>
            <a:chExt cx="8229600" cy="2743200"/>
          </a:xfrm>
        </p:grpSpPr>
        <p:sp>
          <p:nvSpPr>
            <p:cNvPr id="85" name="AutoShape 5"/>
            <p:cNvSpPr/>
            <p:nvPr/>
          </p:nvSpPr>
          <p:spPr>
            <a:xfrm>
              <a:off x="2057400" y="5257800"/>
              <a:ext cx="7086600" cy="762120"/>
            </a:xfrm>
            <a:custGeom>
              <a:avLst/>
              <a:gdLst>
                <a:gd name="textAreaLeft" fmla="*/ 1240200 w 7086600"/>
                <a:gd name="textAreaRight" fmla="*/ 5137920 w 708660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6"/>
            <p:cNvSpPr/>
            <p:nvPr/>
          </p:nvSpPr>
          <p:spPr>
            <a:xfrm flipH="1">
              <a:off x="914400" y="3276720"/>
              <a:ext cx="7848720" cy="1066680"/>
            </a:xfrm>
            <a:custGeom>
              <a:avLst/>
              <a:gdLst>
                <a:gd name="textAreaLeft" fmla="*/ 1373400 w 7848720"/>
                <a:gd name="textAreaRight" fmla="*/ 5690520 w 7848720"/>
                <a:gd name="textAreaTop" fmla="*/ 142920 h 1066680"/>
                <a:gd name="textAreaBottom" fmla="*/ 9237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Object 7"/>
          <p:cNvGraphicFramePr/>
          <p:nvPr/>
        </p:nvGraphicFramePr>
        <p:xfrm>
          <a:off x="-76320" y="5361120"/>
          <a:ext cx="1752840" cy="11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5361120"/>
                    <a:ext cx="175284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8"/>
          <p:cNvSpPr/>
          <p:nvPr/>
        </p:nvSpPr>
        <p:spPr>
          <a:xfrm>
            <a:off x="390600" y="115920"/>
            <a:ext cx="84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OGGERHEAD TURTLES IN THE SOUTH PA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CANDIDATE FOR A “SINGLE SPECIES ACTION PLA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"/>
          <p:cNvSpPr/>
          <p:nvPr/>
        </p:nvSpPr>
        <p:spPr>
          <a:xfrm flipV="1">
            <a:off x="1295280" y="4648320"/>
            <a:ext cx="762120" cy="761760"/>
          </a:xfrm>
          <a:prstGeom prst="line">
            <a:avLst/>
          </a:prstGeom>
          <a:ln w="7632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0"/>
          <p:cNvGraphicFramePr/>
          <p:nvPr/>
        </p:nvGraphicFramePr>
        <p:xfrm>
          <a:off x="7391520" y="3989520"/>
          <a:ext cx="1752480" cy="11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3989520"/>
                    <a:ext cx="175248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1"/>
          <p:cNvSpPr/>
          <p:nvPr/>
        </p:nvSpPr>
        <p:spPr>
          <a:xfrm>
            <a:off x="7696080" y="3686040"/>
            <a:ext cx="1371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ONG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BYC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07080" y="5300640"/>
            <a:ext cx="10814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13"/>
          <p:cNvGraphicFramePr/>
          <p:nvPr/>
        </p:nvGraphicFramePr>
        <p:xfrm>
          <a:off x="2479680" y="5727600"/>
          <a:ext cx="170352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9680" y="5727600"/>
                    <a:ext cx="1703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Line 14"/>
          <p:cNvSpPr/>
          <p:nvPr/>
        </p:nvSpPr>
        <p:spPr>
          <a:xfrm flipH="1" flipV="1">
            <a:off x="2327760" y="4989960"/>
            <a:ext cx="905760" cy="768960"/>
          </a:xfrm>
          <a:prstGeom prst="line">
            <a:avLst/>
          </a:prstGeom>
          <a:ln w="76320">
            <a:solidFill>
              <a:srgbClr val="ff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2433600" y="5649840"/>
            <a:ext cx="21268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OST-HATCH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 flipH="1">
            <a:off x="2124000" y="3835440"/>
            <a:ext cx="533520" cy="457200"/>
          </a:xfrm>
          <a:prstGeom prst="line">
            <a:avLst/>
          </a:prstGeom>
          <a:ln w="76320">
            <a:solidFill>
              <a:srgbClr val="ff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17"/>
          <p:cNvGraphicFramePr/>
          <p:nvPr/>
        </p:nvGraphicFramePr>
        <p:xfrm>
          <a:off x="2276640" y="2844720"/>
          <a:ext cx="1676160" cy="114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76640" y="2844720"/>
                    <a:ext cx="167616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18"/>
          <p:cNvSpPr/>
          <p:nvPr/>
        </p:nvSpPr>
        <p:spPr>
          <a:xfrm>
            <a:off x="2505240" y="2492280"/>
            <a:ext cx="1752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AS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7310520" y="494172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0" descr="cc_pacific_posthatchlings"/>
          <p:cNvPicPr/>
          <p:nvPr/>
        </p:nvPicPr>
        <p:blipFill>
          <a:blip r:embed="rId9"/>
          <a:stretch/>
        </p:blipFill>
        <p:spPr>
          <a:xfrm>
            <a:off x="228600" y="609480"/>
            <a:ext cx="84582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Lady Musgrave Turtle 4_JimBuck"/>
          <p:cNvPicPr/>
          <p:nvPr/>
        </p:nvPicPr>
        <p:blipFill>
          <a:blip r:embed="rId1"/>
          <a:stretch/>
        </p:blipFill>
        <p:spPr>
          <a:xfrm>
            <a:off x="-36360" y="-144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45240" y="471600"/>
            <a:ext cx="8620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NOT CLEAR SEPARATION &amp; CO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IN DELIVERY OF INTERNATIONAL MARINE TURTLE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C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IUCN SSC Marine Turtle Speciali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330200" y="3413160"/>
            <a:ext cx="659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POOR LIAISON 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CMS &amp; RAM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FOR MAXIMISING MARINE TURTLE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WITHIN RAMSAR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Cm_Uw turtles, Raine Island, 2002Dec_HoggettA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4920" y="2602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CMS: marine turtle conservation 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1995: appointed Scientific Councillor, marine tur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1999: MoU Atlantic Coast of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001: MoU Indian Ocean – South Eas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2638440"/>
            <a:ext cx="820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BUT THERE ARE OTHER international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hat have been developed specifically for enhanc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marine turtle conservation management, commencing 198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427400" y="5157720"/>
            <a:ext cx="632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IS INTERNATIONAL COOPERATION IMPROV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HE STATUS OF MARINE TURTLE POPUl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3" descr="wafrica_mou"/>
          <p:cNvPicPr/>
          <p:nvPr/>
        </p:nvPicPr>
        <p:blipFill>
          <a:blip r:embed="rId1"/>
          <a:stretch/>
        </p:blipFill>
        <p:spPr>
          <a:xfrm>
            <a:off x="4373640" y="0"/>
            <a:ext cx="4806720" cy="688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ms_logo_blue_300dpi1"/>
          <p:cNvPicPr/>
          <p:nvPr/>
        </p:nvPicPr>
        <p:blipFill>
          <a:blip r:embed="rId2"/>
          <a:stretch/>
        </p:blipFill>
        <p:spPr>
          <a:xfrm>
            <a:off x="14400" y="981000"/>
            <a:ext cx="1172880" cy="1587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915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MORANDUM OF UNDERSTAN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CERNING  CONSERVATION MEASURES FOR MARINE TURT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F THE ATLANTIC COAST OF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" descr="Dc_dig_body-pit_SthAfrica_1995Nov"/>
          <p:cNvPicPr/>
          <p:nvPr/>
        </p:nvPicPr>
        <p:blipFill>
          <a:blip r:embed="rId3"/>
          <a:stretch/>
        </p:blipFill>
        <p:spPr>
          <a:xfrm>
            <a:off x="3060720" y="5273640"/>
            <a:ext cx="2879640" cy="1900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4"/>
          <p:cNvSpPr/>
          <p:nvPr/>
        </p:nvSpPr>
        <p:spPr>
          <a:xfrm>
            <a:off x="231840" y="2886120"/>
            <a:ext cx="42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INCE ~20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 FUNCTIONAL SECRETARI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 DELIVERY OF ACT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TERNATIONAL COOPERATION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iosea_map"/>
          <p:cNvPicPr/>
          <p:nvPr/>
        </p:nvPicPr>
        <p:blipFill>
          <a:blip r:embed="rId1"/>
          <a:stretch/>
        </p:blipFill>
        <p:spPr>
          <a:xfrm>
            <a:off x="-36360" y="1298520"/>
            <a:ext cx="9180360" cy="563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Baguun_Cm_nesting1_Philippines_1999"/>
          <p:cNvPicPr/>
          <p:nvPr/>
        </p:nvPicPr>
        <p:blipFill>
          <a:blip r:embed="rId2"/>
          <a:srcRect l="0" t="14096" r="0" b="0"/>
          <a:stretch/>
        </p:blipFill>
        <p:spPr>
          <a:xfrm>
            <a:off x="3346560" y="1022400"/>
            <a:ext cx="2449440" cy="13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0" y="0"/>
            <a:ext cx="91915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MORANDUM OF UNDERSTANDING ON THE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D MANAGEMENT OF MARINE TURTLES AND THEIR HABITA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F THE INDIAN OCEAN AND SOUTH-EAS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-1440" y="5661000"/>
            <a:ext cx="43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YNAMIC SECRETARI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XCELLENT WEBSITE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TER-GOVERNMENT SUC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LOW CHANGE WITHI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cms_logo_blue_300dpi1"/>
          <p:cNvPicPr/>
          <p:nvPr/>
        </p:nvPicPr>
        <p:blipFill>
          <a:blip r:embed="rId3"/>
          <a:stretch/>
        </p:blipFill>
        <p:spPr>
          <a:xfrm>
            <a:off x="14400" y="692280"/>
            <a:ext cx="117288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iac_map"/>
          <p:cNvPicPr/>
          <p:nvPr/>
        </p:nvPicPr>
        <p:blipFill>
          <a:blip r:embed="rId1"/>
          <a:stretch/>
        </p:blipFill>
        <p:spPr>
          <a:xfrm>
            <a:off x="395280" y="1054080"/>
            <a:ext cx="8353440" cy="5830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0"/>
            <a:ext cx="9191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 INTER AMERICAN CONVENTION FOR THE PROTECTION AND CONSERVATION OF SEA TURTL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5640" y="2944800"/>
            <a:ext cx="3970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UNCTIONAL SECRETARI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EBSITE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ONG IN-COUNTRY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ONG NGO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8" descr="Lo_Osteonale3"/>
          <p:cNvPicPr/>
          <p:nvPr/>
        </p:nvPicPr>
        <p:blipFill>
          <a:blip r:embed="rId2"/>
          <a:stretch/>
        </p:blipFill>
        <p:spPr>
          <a:xfrm>
            <a:off x="-181080" y="4896000"/>
            <a:ext cx="3168720" cy="2062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3225600" y="5595840"/>
            <a:ext cx="2568960" cy="85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Y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 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FROM PRE-2001 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widecast map"/>
          <p:cNvPicPr/>
          <p:nvPr/>
        </p:nvPicPr>
        <p:blipFill>
          <a:blip r:embed="rId1"/>
          <a:stretch/>
        </p:blipFill>
        <p:spPr>
          <a:xfrm>
            <a:off x="971640" y="719280"/>
            <a:ext cx="8208720" cy="5878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0"/>
            <a:ext cx="9191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R CARIBBEAN SEA TURTLE CONSERVATION NETWORK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(WIDE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Caretta_x005F_X8558_35yr_reflection_MR20130110"/>
          <p:cNvPicPr/>
          <p:nvPr/>
        </p:nvPicPr>
        <p:blipFill>
          <a:blip r:embed="rId2"/>
          <a:stretch/>
        </p:blipFill>
        <p:spPr>
          <a:xfrm>
            <a:off x="-324000" y="4389480"/>
            <a:ext cx="4067280" cy="2711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-30600" y="4375080"/>
            <a:ext cx="50695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NGO PARTNERSHIP WITH GOVER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ITHIN UN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IBBEAN ENVIRONMENT PROGRAMM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DYNAMIC SUPPORT FOR IN-COUNTRY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997080" y="6100920"/>
            <a:ext cx="256896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Y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 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031840" y="1217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684000" y="1687680"/>
            <a:ext cx="79729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RY COUNTRY HAS A LOCAL WIDECAST COUNTRY COORDIN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AN IDENTIFIED PERSON/AGENCY RESPONSIBLE FOR SEA TURTLE CONSERVATION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371640" y="330516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MMENCED IN 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sprep map"/>
          <p:cNvPicPr/>
          <p:nvPr/>
        </p:nvPicPr>
        <p:blipFill>
          <a:blip r:embed="rId1"/>
          <a:stretch/>
        </p:blipFill>
        <p:spPr>
          <a:xfrm>
            <a:off x="612720" y="1252440"/>
            <a:ext cx="8062920" cy="5632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0"/>
            <a:ext cx="9191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TH PACIFIC REGIONAL ENVIRONMENT PROGRAMM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(SPR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RINE SPECIES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084920" y="1322280"/>
            <a:ext cx="494748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ECRETARIA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GOOD EDUCATION &amp; TRAINING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MPHASIS ON TAGGING &amp; TELEMETRY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OOR SUPPORT FOR SUSTAINABLE HARV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IMITED F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OW HUMAN POPUL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DEVELOPING COU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536640" y="6237360"/>
            <a:ext cx="30168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IDE 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AKE OF TURTLE &amp; EG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Ei_feeding_Hawaii_Aki2_Bennett"/>
          <p:cNvPicPr/>
          <p:nvPr/>
        </p:nvPicPr>
        <p:blipFill>
          <a:blip r:embed="rId2"/>
          <a:stretch/>
        </p:blipFill>
        <p:spPr>
          <a:xfrm>
            <a:off x="-468360" y="5254560"/>
            <a:ext cx="30974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TIHPA_map"/>
          <p:cNvPicPr/>
          <p:nvPr/>
        </p:nvPicPr>
        <p:blipFill>
          <a:blip r:embed="rId1"/>
          <a:stretch/>
        </p:blipFill>
        <p:spPr>
          <a:xfrm>
            <a:off x="792000" y="1444680"/>
            <a:ext cx="7667640" cy="5421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0"/>
            <a:ext cx="91915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996: MEMORANDUM OF AGREEMENT BETWEEN THE GOVERNMENT OF THE REPUBLIC OF PHILIPPINES AND THE GOVERNMENT OF MALAYSIA ON THE ESTABLISHMENT OF THE TURTLE ISLANDS HERITAGE PROTECTED AREA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065560" y="5743440"/>
            <a:ext cx="396756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COVERING POP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ABAH: SUSTANABLE ECOTOUR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HILIPPINES: SOME EGG HARV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TRONG GOVERNMEN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446760" y="398520"/>
            <a:ext cx="770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THREATENING PROCESSES currently impac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marine turtle population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SHERIES BYCATCH IN COASTAL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FISHERIES BYCATCH IN OPEN OC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INGESTION OF SYNTHETIC DE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ENTANGLEMENT IN MARINE DE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IVE HARVEST OF TUR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IVE HARVEST OF 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IVE EGG LOSS TO PRED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STAL DEVELOPMENT – HABITAT LOSS/DEGRA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STAL DEVELOPMENT - ALTERED LIGHT HORIZ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NESTING BE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0" y="5070600"/>
            <a:ext cx="9144000" cy="1618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ED CONSERVATION EFFORT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VER ARCHING ACTIONS FROM OCEAN BASIN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ILATERAL/MULTINATIONAL INTERNATIONAL CO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ITHIN COUNTRY GOVER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LOCAL COMMUNITY ENGAGEMENT WITH LOCAL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2T01:57:31Z</dcterms:created>
  <dc:creator>Limpus</dc:creator>
  <dc:description/>
  <dc:language>en-US</dc:language>
  <cp:lastModifiedBy>Robert Vagg</cp:lastModifiedBy>
  <dcterms:modified xsi:type="dcterms:W3CDTF">2013-10-24T12:19:02Z</dcterms:modified>
  <cp:revision>19</cp:revision>
  <dc:subject/>
  <dc:title>PowerPoint Presentation</dc:title>
</cp:coreProperties>
</file>